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73B-F4FC-4910-A3D7-7CD9D18A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42670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EC5E-04A3-47C7-87F2-9B584074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832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42670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28320" y="42670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2F5-A9A3-4B74-9FFB-9EB51589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7080" y="160020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01000" y="160020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42670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7080" y="42670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01000" y="42670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D36-5FEA-498E-910A-D5E1F742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932A-0DCE-48B5-92D9-CDC608E7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F3E3-D855-4063-AB28-3F740D5F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679C-2DA8-41B6-A9A7-E978AA03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8320" y="16002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8840-C24D-49C0-88D3-39D450B7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00B0-DE62-4491-A3B2-6320605A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837720"/>
            <a:ext cx="8381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1EDC-B66B-4B60-8126-5A91ACA9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8320" y="16002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160" y="42670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BA08-A81B-4DE8-80B7-1202C757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9B6C-2A42-4C5D-8A56-6B64EF51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832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28320" y="42670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000C-158F-491E-ABFC-4DBBAF9B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832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42670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7F8B-4BBB-4F14-AF84-ABEC8E2C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160" y="42670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FD45-91FA-4084-81CE-75758C60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832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3160" y="42670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28320" y="42670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9A4D-14B8-47D7-BE2D-C792F078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7080" y="160020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01000" y="160020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3160" y="42670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7080" y="42670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01000" y="42670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696A-3004-4AC3-A112-8D77B8A5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CB8C-4200-464C-9725-0ACB5AB5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8320" y="16002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82DF-BA07-460F-9EE7-64FF68D3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B0C-F7FD-4824-9919-993C5F26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837720"/>
            <a:ext cx="8381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F583-E1DA-4E9B-8528-04091E3C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8320" y="16002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2670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93C-6962-4D03-BFC1-D575E347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832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28320" y="42670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C397-53B2-4C12-BFB1-3AA00546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832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42670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207-0273-481D-98CC-8BFB8989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7DDE-BEFF-4397-93D2-FB9E0E489AC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16640" indent="-450720">
              <a:spcBef>
                <a:spcPts val="10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2" marL="1356120" indent="-226080">
              <a:spcBef>
                <a:spcPts val="10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3" marL="1695600" indent="-226080">
              <a:spcBef>
                <a:spcPts val="1001"/>
              </a:spcBef>
              <a:buClr>
                <a:srgbClr val="5b524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4" marL="2036520" indent="-226080">
              <a:spcBef>
                <a:spcPts val="1001"/>
              </a:spcBef>
              <a:buClr>
                <a:srgbClr val="b0ae6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5" marL="2036520" indent="-226080">
              <a:spcBef>
                <a:spcPts val="1001"/>
              </a:spcBef>
              <a:buClr>
                <a:srgbClr val="5b524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6" marL="2036520" indent="-226080">
              <a:spcBef>
                <a:spcPts val="1001"/>
              </a:spcBef>
              <a:buClr>
                <a:srgbClr val="5b524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16640" indent="-450720">
              <a:spcBef>
                <a:spcPts val="10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2" marL="1356120" indent="-226080">
              <a:spcBef>
                <a:spcPts val="10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3" marL="1695600" indent="-226080">
              <a:spcBef>
                <a:spcPts val="1001"/>
              </a:spcBef>
              <a:buClr>
                <a:srgbClr val="5b524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4" marL="2036520" indent="-226080">
              <a:spcBef>
                <a:spcPts val="1001"/>
              </a:spcBef>
              <a:buClr>
                <a:srgbClr val="b0ae6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5" marL="2036520" indent="-226080">
              <a:spcBef>
                <a:spcPts val="1001"/>
              </a:spcBef>
              <a:buClr>
                <a:srgbClr val="5b524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6" marL="2036520" indent="-226080">
              <a:spcBef>
                <a:spcPts val="1001"/>
              </a:spcBef>
              <a:buClr>
                <a:srgbClr val="5b524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C915-782A-46FC-9364-2F1616936A2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Natural Resource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Interdependent Relationship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When animals die, they decompose.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The decomposition process releases minerals back into the soil.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Plants can use these minerals for growth.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Air and Wind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The atmosphere is the area surrounding the Earth.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Air is the mixture of gases that surrounds the Earth.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Wind is the movement of the air.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Water vapor, gases, and particulate can be found in the atmosphere.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Air and Wind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The conditions found in the atmosphere are what causes weather.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Weather is the condition of the atmosphere, including moisture, temperature, movement, and pressure.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Air and Wind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The climate of an area helps determine which natural resources can survive in the area.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Climate is the condition of the weather in a particular location.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19" name="Picture 5" descr="wind-f5"/>
          <p:cNvPicPr/>
          <p:nvPr/>
        </p:nvPicPr>
        <p:blipFill>
          <a:blip r:embed="rId1"/>
          <a:stretch/>
        </p:blipFill>
        <p:spPr>
          <a:xfrm>
            <a:off x="7162920" y="4876920"/>
            <a:ext cx="17827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Fossil Fuel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Fossil fuels are natural resources used to provide energy.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ossil fuels took millions of years to make.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y are the remains of decomposed plants and animals.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ir energy comes from the energy produced by the plants and animals.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Fossil Fuels Group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Petroleum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Natural gas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Coa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24" name="Picture 5" descr="petroleum"/>
          <p:cNvPicPr/>
          <p:nvPr/>
        </p:nvPicPr>
        <p:blipFill>
          <a:blip r:embed="rId1"/>
          <a:stretch/>
        </p:blipFill>
        <p:spPr>
          <a:xfrm>
            <a:off x="5410080" y="33526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Petroleum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Liquid form of fossil fuels used to make gasoline and oils.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Natural Ga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Gaseous form of fossil fuels used in heating and cooking.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29" name="Picture 5" descr="2002-05-31-natural-gas"/>
          <p:cNvPicPr/>
          <p:nvPr/>
        </p:nvPicPr>
        <p:blipFill>
          <a:blip r:embed="rId1"/>
          <a:stretch/>
        </p:blipFill>
        <p:spPr>
          <a:xfrm>
            <a:off x="1828800" y="3733920"/>
            <a:ext cx="2590920" cy="2297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natural-gas-form"/>
          <p:cNvPicPr/>
          <p:nvPr/>
        </p:nvPicPr>
        <p:blipFill>
          <a:blip r:embed="rId2"/>
          <a:stretch/>
        </p:blipFill>
        <p:spPr>
          <a:xfrm>
            <a:off x="4724280" y="3733920"/>
            <a:ext cx="407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Coal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olid form of fossil fuels used in factories and generating electricity.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33" name="Picture 5" descr="coal"/>
          <p:cNvPicPr/>
          <p:nvPr/>
        </p:nvPicPr>
        <p:blipFill>
          <a:blip r:embed="rId1"/>
          <a:stretch/>
        </p:blipFill>
        <p:spPr>
          <a:xfrm>
            <a:off x="3352680" y="3962520"/>
            <a:ext cx="2667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Mineral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Natural inorganic substances on or in the earth.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Are not living things.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Mined from the earth and are used to produce everything from iron to brick.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Jewelry, coins, monuments, and concrete are also made from minerals.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biosphere"/>
          <p:cNvPicPr/>
          <p:nvPr/>
        </p:nvPicPr>
        <p:blipFill>
          <a:blip r:embed="rId1"/>
          <a:stretch/>
        </p:blipFill>
        <p:spPr>
          <a:xfrm>
            <a:off x="5029200" y="3311640"/>
            <a:ext cx="4114800" cy="3546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Natural Resource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Occur naturally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Found in our environment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Environment = the conditions that surround us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People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Help determine how other natural resources are used. 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As the population increases, natural resource use will increase.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The wise use of resources is necessary to ensure their future availability.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Soil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Outer layer of the earth’s surface that supports life. 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Plants grow in soil, humans and other animals eat plants, humans and animals produce waste that provides nutrients for plants to grow, and the cycle continues.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However, soil can be easily eroded by misuse. 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oil must be protected in order for it to continue to be a resource.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Sunlight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The source of almost all the energy used on the Earth. 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The light from the sun produces solar energy. 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Plants use this energy in the process of photosynthesis.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People can also use this energy if it is harnessed using solar collectors.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Water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A tasteless, colorless, liquid natural resource.  All living things need water to survive.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Water is a naturally occurring compound made up of two atoms of hydrogen and one atom of oxygen.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Water can be found in three forms, solid, liquid, and gas.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44" name="Picture 5" descr="splash-of-single-drop-in-still-water-pink-and-cyan-rotated-and-cropped-AJHD"/>
          <p:cNvPicPr/>
          <p:nvPr/>
        </p:nvPicPr>
        <p:blipFill>
          <a:blip r:embed="rId1"/>
          <a:stretch/>
        </p:blipFill>
        <p:spPr>
          <a:xfrm>
            <a:off x="6629400" y="0"/>
            <a:ext cx="1527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Water Cycle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108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Movement of water from the earth’s surface to the atmosphere and back to the surface.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ater is continuously renewed through the hydrologic cycle.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4807080" y="1600200"/>
            <a:ext cx="4108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Wildlife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All of the plants and animals that live in the wild.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These plants and animals have not been domesticated.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Domestication is the control of plants and animals by man.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Food Web Activity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Pick a community within an ecosystem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Draw a food web showing the relationships within the community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Should have at least three food chains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Be sure to draw the environment in detail besides the organisms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Food Web Activity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Label each of the following in your food web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06200" indent="-44604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Abiotic and biotic parts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06200" indent="-44604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The dominant species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06200" indent="-44604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Aquatic or terrestrial ecosystem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06200" indent="-44604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Where competition and predation takes place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06200" indent="-44604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Herbivores, carnivores, omnivores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06200" indent="-44604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What does it mean?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Adaptation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uccession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election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Homeostasis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Biome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Adaptation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Organism’s ability to tolerate change in its environment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Necessary for survival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Occurs because the species goes through change over time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Examples: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Natural Resource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NOT made by man, but man can help ensure their continued existence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ome are essential others are used to make life easier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Succession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Replacement of one community by another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Occurs naturally over time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Can be altered by humans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Examples: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Selection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urvival of organisms that are best adapted to their environment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Many changes occur through genetics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Examples: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Homeostasi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Process in which organisms maintain a constant internal environment when the external environment changes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Homeotherms (warm-blooded or endotherms) - can maintain a constant body temperatur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Poikilotherms (cold-blooded or ectothermic) – cannot maintain a constant body temperatur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Biome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Area made up of a distinct combination of plants and animals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Made up of the groups of ecosystems found on earth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terrestrial or aquatic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Examples: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RAFT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Role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Pick one: tree, soil, water, or air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Audience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Local residence or local politicians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Letter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Topic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Inform them of the your importance and what is happening to you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Persuade them to help you survive because you are important to them 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Things to include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What biome and ecosystem are you a part of?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43160" indent="-44316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What is your importance?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996120" indent="-441720">
              <a:spcBef>
                <a:spcPts val="799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Remember food webs, your relationship with other natural resources (interdependence), and how are humans dependent on you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marL="443160" indent="-44316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How are you in danger?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43160" indent="-44316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What can be done to help?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43160" indent="-44316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Week 9/7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What do you already know about your topic?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What are some things you would like to find out about your topic?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Could all your aunts, uncles and cousins live with you?</a:t>
            </a: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3960"/>
            <a:ext cx="83059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rite down the number of people in your immediate family. 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700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Count the number of aunts, uncles, cousins, and grandparents you have. 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700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Add this to the number of people in your immediate family.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hat would happen if you all had to live in one house?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700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Consider the amount of room that many people would take up and how much food and water they’d need.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Human use of Natural Resource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Meet their three basic needs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Food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Clothing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Shelter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Can be consumptive use and non-consumptive use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Consumptive Use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Using a natural resource so that the amount used no longer exists.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Each time that resource is used, its supply is reduced. 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Example = hunting 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Once that animal is killed and removed from the wild, it no longer exists.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Natural Resources Group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Air and wind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Fossil fuels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Minerals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People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Soil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Sunlight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Wildlife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Non-consumptive Use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Using a natural resource without reducing its supply 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An example of non-consumptive use is watching wildlife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Human Population Trend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Population = number of people in a given area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Current world population = 6.86 billion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Predicted to double in the next 50 years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Current US population = 310 million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82" name="Picture 1028" descr=""/>
          <p:cNvPicPr/>
          <p:nvPr/>
        </p:nvPicPr>
        <p:blipFill>
          <a:blip r:embed="rId1"/>
          <a:stretch/>
        </p:blipFill>
        <p:spPr>
          <a:xfrm>
            <a:off x="4808520" y="1828800"/>
            <a:ext cx="4183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Land-use Planning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eciding how land will be use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Includes guidelines on how to use the land for agricultural, commercial, and residential areas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700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Urban areas rely on rural areas to provide them with quality water, a consistent food supply, and materials to build their homes.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700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Rural areas depend on urban areas to do their best to keep the environment clean and healthy.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Recycling and Reusing Natural Resource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Demand for natural resources can be reduced if we recycle and/or reuse the ones we currently use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Can ensure the sustainability of natural resources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ustainability = going about life so that resources are available for future generations to us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a3d7a"/>
                </a:solidFill>
                <a:latin typeface="Arial"/>
              </a:rPr>
              <a:t>Renewable vs. Nonrenewable Resources</a:t>
            </a:r>
            <a:endParaRPr b="0" lang="en-US" sz="3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Renewable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an be replaced after us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Soil, plants, and water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Nonrenewable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Cannot be replaced after use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Minerals and fossils fuels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Inexhaustible vs. Exhaustible Resource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Inexhaustibl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continuously replenished, the supply of the resource will not run out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Sunlight, wind, and water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xhaustibl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Available in limited quantity and can be completely used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Can be replaceable or irreplaceable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Replaceable = can be replenished (wildlife)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Irreplaceable = gone once it is used (fossil fuels and most minerals)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Interdependent Relationship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108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ll natural resources depend on each other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This means that all living things depend on each other.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807080" y="1600200"/>
            <a:ext cx="4108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Interdependent Relationship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Humans need animals for food, clothing, and at one time for work.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Humans and animals need plants to live.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Used for food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Produce oxygen needed to breathe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Interdependent Relationship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Plants depend on animals and humans. 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Animals, including humans, give off carbon dioxide that the plants need to live.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2:57:08Z</dcterms:created>
  <dc:creator>mainrod</dc:creator>
  <dc:description/>
  <dc:language>en-US</dc:language>
  <cp:lastModifiedBy>Alicia Burge</cp:lastModifiedBy>
  <cp:lastPrinted>2010-09-03T15:05:34Z</cp:lastPrinted>
  <dcterms:modified xsi:type="dcterms:W3CDTF">2010-09-07T23:20:17Z</dcterms:modified>
  <cp:revision>26</cp:revision>
  <dc:subject/>
  <dc:title>Environmental Resources Unit A</dc:title>
</cp:coreProperties>
</file>